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8B60-29EB-47B5-B12B-24BAFF6698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95D2-9547-4A15-A387-EF875426403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3ED1-308E-47C5-91F1-DC31E48ABC5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BEDF-8866-4095-B96A-AF28C877445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39A-F070-4206-A5C0-541D3995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2A5-2337-4638-95EB-77173E91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D3F-99A2-4FE4-920C-B64F66BB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701-3D2E-4873-8012-AABD10AA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1C6-21DD-436D-B2A0-2BB802DD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F87-4509-49DF-B3E9-FFC35795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1D62-2323-4A94-B4DB-C4A49B35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159-3786-448C-AD64-9C2FA423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D8D-1E90-4B41-8A7A-798A7FDE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BCC6-C051-4F54-91F7-2CD21D84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B1D-47D8-4322-9548-89D3AABA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073-D783-4924-AE1A-46036878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3211-8999-4174-BD5A-B7B246992E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3E6D-945D-421C-80AD-BCD6D116C29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report-cover-powerpoint.jpg"/>
          <p:cNvPicPr/>
          <p:nvPr/>
        </p:nvPicPr>
        <p:blipFill>
          <a:blip r:embed="rId1"/>
          <a:stretch/>
        </p:blipFill>
        <p:spPr>
          <a:xfrm>
            <a:off x="-12600" y="819000"/>
            <a:ext cx="9131040" cy="55627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79280" y="1268280"/>
            <a:ext cx="8713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0253f"/>
                </a:solidFill>
                <a:latin typeface="Century Gothic"/>
              </a:rPr>
              <a:t>PRESENTATION ON RWANDA OBSERVATION CAPABILITY AND NATIONAL REQUIREMENT FOR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 3" descr="rwanda-meteorological-service-logo.jpg"/>
          <p:cNvPicPr/>
          <p:nvPr/>
        </p:nvPicPr>
        <p:blipFill>
          <a:blip r:embed="rId2"/>
          <a:stretch/>
        </p:blipFill>
        <p:spPr>
          <a:xfrm>
            <a:off x="6129360" y="371520"/>
            <a:ext cx="26668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DATA COLLECTION, QUALITY CONTROL AND ARCH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 3" descr="rwanda-meteorological-service-logo.jpg"/>
          <p:cNvPicPr/>
          <p:nvPr/>
        </p:nvPicPr>
        <p:blipFill>
          <a:blip r:embed="rId1"/>
          <a:stretch/>
        </p:blipFill>
        <p:spPr>
          <a:xfrm>
            <a:off x="6659640" y="0"/>
            <a:ext cx="2308320" cy="86508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ntent Placeholder 8" descr="Meteorological processes.jpg"/>
          <p:cNvPicPr/>
          <p:nvPr/>
        </p:nvPicPr>
        <p:blipFill>
          <a:blip r:embed="rId2"/>
          <a:stretch/>
        </p:blipFill>
        <p:spPr>
          <a:xfrm>
            <a:off x="539640" y="1557360"/>
            <a:ext cx="813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ontent Placeholder 4" descr=""/>
          <p:cNvPicPr/>
          <p:nvPr/>
        </p:nvPicPr>
        <p:blipFill>
          <a:blip r:embed="rId1"/>
          <a:stretch/>
        </p:blipFill>
        <p:spPr>
          <a:xfrm>
            <a:off x="457200" y="1654200"/>
            <a:ext cx="8229600" cy="4417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684360" y="620640"/>
            <a:ext cx="84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eo Rwanda Climate Data Management Proces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ional plan for observation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cquire s-band weather Rad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Lightning detector to be ac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iosondes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DAR program is also plan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gister as many as Observing stations in WIGOS/OSC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perate main stations 24hrs/7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77de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6"/>
          <p:cNvSpPr/>
          <p:nvPr/>
        </p:nvSpPr>
        <p:spPr>
          <a:xfrm>
            <a:off x="0" y="60948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 3" descr="rwanda-meteorological-service-logo.jpg"/>
          <p:cNvPicPr/>
          <p:nvPr/>
        </p:nvPicPr>
        <p:blipFill>
          <a:blip r:embed="rId1"/>
          <a:stretch/>
        </p:blipFill>
        <p:spPr>
          <a:xfrm>
            <a:off x="6705720" y="228600"/>
            <a:ext cx="1955520" cy="733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483920"/>
            <a:ext cx="820908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ublic of Rw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wanda is mountaineous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d in central east of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Land locked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bordering with 4 countries namely, Uganda in North, Tanzania in East, Burundi in South and DRC in 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ze;26,338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wanda on African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4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583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333360"/>
          <a:ext cx="6551640" cy="4876920"/>
        </p:xfrm>
        <a:graphic>
          <a:graphicData uri="http://schemas.openxmlformats.org/drawingml/2006/table">
            <a:tbl>
              <a:tblPr/>
              <a:tblGrid>
                <a:gridCol w="425520"/>
                <a:gridCol w="1373040"/>
                <a:gridCol w="720720"/>
                <a:gridCol w="1728720"/>
                <a:gridCol w="863640"/>
                <a:gridCol w="1440000"/>
              </a:tblGrid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on 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servations &amp;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9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synoptic s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speed 2m, 10m Wind Direction 2m, 1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dow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y 1 at Kigali International Airport operates 24hrs 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report hourly 12h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94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o-meteorologic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speed 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Direction 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p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mois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operation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ly 12h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55640" y="476280"/>
          <a:ext cx="6551640" cy="5851440"/>
        </p:xfrm>
        <a:graphic>
          <a:graphicData uri="http://schemas.openxmlformats.org/drawingml/2006/table">
            <a:tbl>
              <a:tblPr/>
              <a:tblGrid>
                <a:gridCol w="425520"/>
                <a:gridCol w="1373040"/>
                <a:gridCol w="720720"/>
                <a:gridCol w="1728720"/>
                <a:gridCol w="863640"/>
                <a:gridCol w="1440000"/>
              </a:tblGrid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on 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servations &amp;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matic stat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 records/ monthly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al Rain gauge stat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 records/ monthly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51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atic Weather s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speed and Direction 2m, 1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atic Rain Gau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9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ather Rad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hr/7da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 Satellite Receiv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oper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hrs/7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es data 24h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synoptic stations registered in Osc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747880" y="2173320"/>
            <a:ext cx="3648240" cy="3381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77de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6"/>
          <p:cNvSpPr/>
          <p:nvPr/>
        </p:nvSpPr>
        <p:spPr>
          <a:xfrm>
            <a:off x="0" y="60948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80880" y="1828800"/>
            <a:ext cx="84582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Photo-0606.jpg"/>
          <p:cNvPicPr/>
          <p:nvPr/>
        </p:nvPicPr>
        <p:blipFill>
          <a:blip r:embed="rId1"/>
          <a:stretch/>
        </p:blipFill>
        <p:spPr>
          <a:xfrm>
            <a:off x="6242040" y="800280"/>
            <a:ext cx="2901960" cy="2993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125280" y="907920"/>
            <a:ext cx="3076560" cy="2449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-1249200" y="0"/>
            <a:ext cx="79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BSERVING SYSTEM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:\Documents and Settings\Administrator\Desktop\Meteo Rwanda Logo copy.JPG"/>
          <p:cNvPicPr/>
          <p:nvPr/>
        </p:nvPicPr>
        <p:blipFill>
          <a:blip r:embed="rId3"/>
          <a:stretch/>
        </p:blipFill>
        <p:spPr>
          <a:xfrm>
            <a:off x="7427880" y="-27000"/>
            <a:ext cx="175248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20150126_104232"/>
          <p:cNvPicPr/>
          <p:nvPr/>
        </p:nvPicPr>
        <p:blipFill>
          <a:blip r:embed="rId4"/>
          <a:stretch/>
        </p:blipFill>
        <p:spPr>
          <a:xfrm>
            <a:off x="6242040" y="3868560"/>
            <a:ext cx="2868480" cy="2352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IMG-20150602-WA0008"/>
          <p:cNvPicPr/>
          <p:nvPr/>
        </p:nvPicPr>
        <p:blipFill>
          <a:blip r:embed="rId5"/>
          <a:stretch/>
        </p:blipFill>
        <p:spPr>
          <a:xfrm>
            <a:off x="0" y="3854520"/>
            <a:ext cx="3262320" cy="2367000"/>
          </a:xfrm>
          <a:prstGeom prst="rect">
            <a:avLst/>
          </a:prstGeom>
          <a:ln w="0">
            <a:noFill/>
          </a:ln>
        </p:spPr>
      </p:pic>
      <p:sp>
        <p:nvSpPr>
          <p:cNvPr id="76" name="Freccia a destra 3"/>
          <p:cNvSpPr/>
          <p:nvPr/>
        </p:nvSpPr>
        <p:spPr>
          <a:xfrm rot="10800000">
            <a:off x="3564000" y="1053360"/>
            <a:ext cx="2232000" cy="10796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sellaDiTesto 5"/>
          <p:cNvSpPr/>
          <p:nvPr/>
        </p:nvSpPr>
        <p:spPr>
          <a:xfrm>
            <a:off x="3602160" y="10508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tomatic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ccia a destra 6"/>
          <p:cNvSpPr/>
          <p:nvPr/>
        </p:nvSpPr>
        <p:spPr>
          <a:xfrm>
            <a:off x="3713040" y="2297160"/>
            <a:ext cx="2529000" cy="1203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sellaDiTesto 7"/>
          <p:cNvSpPr/>
          <p:nvPr/>
        </p:nvSpPr>
        <p:spPr>
          <a:xfrm>
            <a:off x="3759120" y="2759040"/>
            <a:ext cx="18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nual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ccia a destra 8"/>
          <p:cNvSpPr/>
          <p:nvPr/>
        </p:nvSpPr>
        <p:spPr>
          <a:xfrm rot="10800000">
            <a:off x="3274560" y="3868560"/>
            <a:ext cx="2343240" cy="936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sellaDiTesto 9"/>
          <p:cNvSpPr/>
          <p:nvPr/>
        </p:nvSpPr>
        <p:spPr>
          <a:xfrm>
            <a:off x="3564000" y="414972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tellite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ccia a destra 10"/>
          <p:cNvSpPr/>
          <p:nvPr/>
        </p:nvSpPr>
        <p:spPr>
          <a:xfrm>
            <a:off x="3995640" y="5445000"/>
            <a:ext cx="2376720" cy="7765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sellaDiTesto 11"/>
          <p:cNvSpPr/>
          <p:nvPr/>
        </p:nvSpPr>
        <p:spPr>
          <a:xfrm>
            <a:off x="4284720" y="566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ather R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1"/>
          <p:cNvSpPr/>
          <p:nvPr/>
        </p:nvSpPr>
        <p:spPr>
          <a:xfrm>
            <a:off x="3419640" y="609300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7" name="Picture 3" descr="report-cover-powerpoint.jpg"/>
          <p:cNvPicPr/>
          <p:nvPr/>
        </p:nvPicPr>
        <p:blipFill>
          <a:blip r:embed="rId1"/>
          <a:stretch/>
        </p:blipFill>
        <p:spPr>
          <a:xfrm>
            <a:off x="0" y="1371600"/>
            <a:ext cx="9005760" cy="54864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1835280" y="-31428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Century Gothic"/>
              </a:rPr>
              <a:t>Capabilities    CONT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 3" descr="rwanda-meteorological-service-logo.jpg"/>
          <p:cNvPicPr/>
          <p:nvPr/>
        </p:nvPicPr>
        <p:blipFill>
          <a:blip r:embed="rId2"/>
          <a:stretch/>
        </p:blipFill>
        <p:spPr>
          <a:xfrm>
            <a:off x="6129360" y="371520"/>
            <a:ext cx="2666880" cy="1000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557280" y="652320"/>
            <a:ext cx="65880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dar Coverage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50 Km, beam width: 1-degree, polarisation: dual po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DIS 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installed at the airport and its ope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WOS at the airport: it is operatio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gh capacity computing systems (cluster server)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databank management and NWP mod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national Data Sharing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matic Message Switching System (AMSS) acqui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ATIAL DISTRIBUTION OF OBSERVING SYSTEM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report-cover-powerpoint.jpg"/>
          <p:cNvPicPr/>
          <p:nvPr/>
        </p:nvPicPr>
        <p:blipFill>
          <a:blip r:embed="rId1"/>
          <a:stretch/>
        </p:blipFill>
        <p:spPr>
          <a:xfrm>
            <a:off x="857160" y="1600200"/>
            <a:ext cx="742968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 3" descr="rwanda-meteorological-service-logo.jpg"/>
          <p:cNvPicPr/>
          <p:nvPr/>
        </p:nvPicPr>
        <p:blipFill>
          <a:blip r:embed="rId2"/>
          <a:stretch/>
        </p:blipFill>
        <p:spPr>
          <a:xfrm>
            <a:off x="6154560" y="0"/>
            <a:ext cx="2667240" cy="1000080"/>
          </a:xfrm>
          <a:prstGeom prst="rect">
            <a:avLst/>
          </a:prstGeom>
          <a:ln w="0">
            <a:noFill/>
          </a:ln>
        </p:spPr>
      </p:pic>
      <p:sp>
        <p:nvSpPr>
          <p:cNvPr id="9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5472000" cy="403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13:01:48Z</dcterms:created>
  <dc:creator>steve.palmer</dc:creator>
  <dc:description/>
  <dc:language>en-US</dc:language>
  <cp:lastModifiedBy>Godfrey</cp:lastModifiedBy>
  <cp:lastPrinted>2014-09-11T06:35:56Z</cp:lastPrinted>
  <dcterms:modified xsi:type="dcterms:W3CDTF">2018-08-15T09:15:37Z</dcterms:modified>
  <cp:revision>320</cp:revision>
  <dc:subject/>
  <dc:title>Slide 1</dc:title>
</cp:coreProperties>
</file>